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7AB-ED44-4A73-9C7C-530A6D28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B3A-2B77-4021-9327-A9043294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E28-1BAE-4F28-A31E-FB720AC0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967-BE5E-46F1-B6F9-45D06B5C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D0E-5963-4A1E-99CC-61061237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2B2B-D26F-4DAC-8FCF-0B1A0DD3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3CD0-555E-41BD-8F1E-3C20CFDA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DE32-1CD5-4E04-8F6C-6A942C73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7716-4C29-4F31-978B-C444885D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EBB5-D557-48F3-86C1-BC1AE6EB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0495-BBBF-4C57-AA96-51819BE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567-C976-4E6D-9AED-F4DB8AE6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C3F4-D285-4769-829A-067BEE3E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D38E-659C-4399-9753-79A14F9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CCA4-AB23-4689-8B4F-2B2F7B4C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AAA0-5F58-49B3-855C-023D896B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5307-976E-4B52-805E-4C7A8229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929-B925-4097-A2E5-B5B5CF27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DAE-410D-4FFF-A2F1-A2BED3B1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217-A24F-45FB-BD06-FA24DDF0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007-2836-4670-BB4E-E23D435B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091-1D0C-4896-B564-2C44C85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9CA-5898-465B-B06D-05A4EC9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102-C04F-465D-9498-E7C8C366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EE36-97AF-4D3A-88A1-11060207C2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B46E-79C9-414D-99A4-869DC2EE81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MA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Í HABLAMOS, ASÍ ESCRIBI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TERJEC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417680"/>
          <a:ext cx="8064000" cy="4663800"/>
        </p:xfrm>
        <a:graphic>
          <a:graphicData uri="http://schemas.openxmlformats.org/drawingml/2006/table">
            <a:tbl>
              <a:tblPr/>
              <a:tblGrid>
                <a:gridCol w="1365840"/>
                <a:gridCol w="6698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JAL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O INTENSO DE QUE OCURRA AL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O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RACIÓN, SOR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OR, P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HOL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U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SAL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UF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SANCIO, FASTI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AJÁ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OB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CARAY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ADO, EXTRAÑE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RAVO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AUSO, ADMI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VAYA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GRADO, DISG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BA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DÉN ,INCREDU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¡EH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LAMADA, PREGUNTA, ADVER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RESIONES LATI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CESSIT: mención honorí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DDENDA: apéndice a un lib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AS: por otro nombre, 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OSTERIORI: con pos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 PRIORI: con anterior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IS: dos ve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URRÍCULUM VÍTAE: relación de datos pers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ÉFICIT: fal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 PROFESO: intencion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ROSSO MODO: aproximada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 EXTREMIS: en situaciones extr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ÁXIME: princip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TA BENE (N.B.): obser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 CÁPITA: individualm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ÓRUM: número de individuos necesario para que pueda tomarse un acuer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UPERÁVIT: cantidad que sobrepasa la de los ga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LTIMÁTUM: resolución defini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OX POPULI: de dominio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 GRAFÍAS Y/LL-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ETRÁS DE LOS PREFIJOS AD-, DIS- , SUB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QUE TIENEN SÍLABA  -YEC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CON INFINITIVO SIN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L FINAL DE PALABRA EN UN DIPTONGO O TRIPTO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PALABRAS TERMINADAS EN –ILLO, -ILLA, - ELLO, -ELLA, -A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FORMAS VERBALES ACABADAS –ELLAR, -ILLAR, -ULLAR, -ULL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 ESCRIBE SIEMPRE CON 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LABRAS QUE EMPIEZAN POR EL DIPTONGO HUE-, HUI-, HIE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AS FORMAS DE LOS VERBOS HABER, HABLAR, HACER, HALLAR, HAB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LOS ELEMENTOS COMPOSITIVOS HECTO-, HEPTA-, HEMI-, HETERO- ,HOMO-, HEXA- , HIPER-, HIPO-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CTÁ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LIOMO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ICIC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EXAED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DROAV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ERHIDR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IPOGLUCEM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HOMOGÉN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6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6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21:06:06Z</dcterms:created>
  <dc:creator>AUDIOLEASK</dc:creator>
  <dc:description/>
  <dc:language>en-US</dc:language>
  <cp:lastModifiedBy>AUDIOLEASK</cp:lastModifiedBy>
  <dcterms:modified xsi:type="dcterms:W3CDTF">2013-11-10T21:26:12Z</dcterms:modified>
  <cp:revision>2</cp:revision>
  <dc:subject/>
  <dc:title>TEMA 2</dc:title>
</cp:coreProperties>
</file>